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96C-F802-416C-96BD-A1FAE1E8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503-D894-4A6A-9F09-799CBBF7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34E-CA98-4BBF-BA9F-E31AD217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454-C889-44A3-8C73-26BAF295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6C44-7571-4D86-982C-A218CA01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7DE8-41AF-4CB5-B257-81CA7535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F07C-CE40-4A68-80F9-DA505EEB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D5DC-5BCE-4D1C-9C34-48B21915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F9BD-DBEA-46C0-905A-2F82D717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A2F8-A925-46DD-B883-35EA6E75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FF98-FCBD-4FA7-83BA-F0287AD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8EB-D5AE-4379-91D9-761DA990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182A-883D-49F3-8C3E-44C1436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0EF0-5710-4C0F-AE90-A84CCD02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8957-ADB4-41F8-9980-9EAD652B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5C41-7558-4949-ACF0-FD025DEA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D347-3FC2-44E5-A659-DBC32B79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11A08-8F60-47BA-AE25-8864ABC0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0E95-8805-41CD-8D48-1095890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3489C-39B1-42B3-A1DC-E4F171B0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E1182-B8ED-42D3-965C-AFC61674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B75C1-569E-4477-AFB0-1E351FE3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B23-99BF-45EB-A4DE-467977AD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3F21-CF35-4AC9-9B74-A1322C1E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0C69-38F3-45D4-8EAA-5EE76D15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2756-47F9-4D29-8379-A956FD36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3EE8-B4BE-4DF6-9B35-D56F443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E4BB-7B14-4ADD-B808-5C79D7FB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469A-DA6C-44D4-B085-A0E6265B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8A84-D650-4005-8B1E-9E9B0A93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C083-4075-4724-AF6B-63BB2691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5A67-0DD5-4B06-BC63-D2B759E4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F1B4-CAFF-4697-9EF8-D25157F7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6D8-2657-4BA2-889C-53248118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4960-1CAE-42F3-80A9-FF81A448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C1035-DA4E-4C75-9D85-FCE312A5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1559-F1C1-4EB7-9B1A-249DC40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D1E1-2365-492E-8EDA-F4628191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649E-F811-4A47-B144-8418735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4EA4-00FD-4128-BAC0-476F35D1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E5BA7-DC03-4E9F-B8DF-63E95699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0076-BC81-46EA-B091-157EE9A6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AB7B-3E05-4B19-8A50-EF4882C4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6D5-43D6-491A-8275-23A44040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D74-0707-49B0-BD81-51B7774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CA8-9EC1-4CE5-8346-AC330322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D97-F37D-4B3E-8C5E-FC81094D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45A-266B-4DEE-8282-4A1E5E0F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3AE3-74A6-41AA-960A-6FEE88D095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8D0C-AD9F-4DCE-933F-E9E5A315AC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38A0-D0FA-495A-8C4F-5437D7B7394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E0D7-08ED-4A39-A95F-7AF78EBA6C5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arl’s baseball team had 9 players.  Carl scored in each of the 3 games played during 1 week.  The highest number of runs that Carl scored in a game was 4 runs.  The least number of runs that he scored in a game was 1 run.  The games always started at 7:00 P.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n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each player on the team scores 2 runs, what will be the total number of runs scor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ue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reasonable total of runs that Carl scored in the 3 gam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dne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the first game lasted 2 hours, what time did it en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ur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4 of the players scored runs, how many players di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co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i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Carl got to the game 45 minutes before it started, what time did he arriv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2:32:59Z</dcterms:created>
  <dc:creator>127partidak</dc:creator>
  <dc:description/>
  <dc:language>en-US</dc:language>
  <cp:lastModifiedBy>127partidak</cp:lastModifiedBy>
  <dcterms:modified xsi:type="dcterms:W3CDTF">2011-08-30T21:27:26Z</dcterms:modified>
  <cp:revision>2</cp:revision>
  <dc:subject/>
  <dc:title>Information</dc:title>
</cp:coreProperties>
</file>